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80808"/>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move the slide</a:t>
            </a:r>
            <a:endParaRPr b="0" lang="en-US" sz="4400" spc="-1" strike="noStrike">
              <a:solidFill>
                <a:srgbClr val="080808"/>
              </a:solidFill>
              <a:latin typeface="Tahoma"/>
            </a:endParaRPr>
          </a:p>
        </p:txBody>
      </p:sp>
      <p:sp>
        <p:nvSpPr>
          <p:cNvPr id="4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9266-8AC4-4E81-A16C-3B27D815D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44DA-645A-49B4-B6B2-8A26F5FBC47F}"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2.0</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B287-E4A4-422A-BE88-3F027796DFEA}"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it’s another great tool from google.  If you didn’t know, it’s not just for searching any more.  You can easily set up RSS to catch the sites you wa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3A42-8418-4847-B6D5-5EFB980FEEFD}"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student safety is of utmost importance.   Therefore we will create secure environments to conduct our educational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al consent is also necessar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3D5C-38F9-4207-BE62-8DB1B116C3F5}"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2.0 is also known as the Read Write Web.  It includes Blogs, Wikis, Podcasts, Really Simple Syndication and More.  It is not an upgraded version of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ter yet, it’s f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my promotion of Web 2.0 is for activities outside of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5341-3098-44EC-A9D4-81ED39A60912}"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 O’Reilly 2004 quoted Web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 Berners-Lee: many have questioned whether one can use the term in a meaningful way, since many of the technology components of "Web 2.0" have existed since the early days of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gs: pre Web (HTTP:  1991, Usenet  newsgroups   term blog: 199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s:  Ward Cunningham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Bookmarking: 1996    2004 Deli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Google May 2005 as personal homepage – April 2007 rena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dcasting: 2000, Adam Curry former VJ,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S: 1995</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5FFD-C55A-49F6-BEA6-1DCC0753FE0B}"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gs, or Web logs, are like online journals; MySpace/Facebook is the most popular blogging plat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ne a secure/private environment for educational journaling with peer feedba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A3EA-1CD9-4E8B-8E98-231CFC091BFC}"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s allow members to edit pages.  It is the perfect environment for collaboration.  The educational applications and implications are remark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Euro + other SS, A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yan:  Embeds podcasts, student have their own wikis – more for web sites – post work.  Students create collaborative study guides for exa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943A-56F5-4E1B-8AD4-2279B091B969}"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dcasts are audio streams available online.  The subject matter of podcasts varies, but there are powerful uses in education.  iPods are option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59D7-94AC-4E42-9F7E-92BB88DEF619}"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ousands of podcasts available for free use, including many educational ones.  Student-created and teacher-created podcasts extend the ability for creativity and production of audio for online distribution.  Imagine the applications in any subject area involving voice or music (FL, English, interviewing.. Think of som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MSJ:  AP Physics,  Campus Minist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22AA-33DD-470F-9C58-05432637632B}"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S brings the content you want from the Web that is updated frequently.  Instead of checking several sites you check regularly, bring the content to you!  Student blog entries and podcasts can also be delivered to you by visiting one site.  Just set up the page to collect the f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8C733-1220-4A4B-B9BF-7A7BE2988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3BBEC-744E-46C4-AFCF-E2D5B22BF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38"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9"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96926E-4D13-458B-8145-8F7A93B545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42A4CD-1A8F-47D9-ABA6-8422AE68C4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804145-203D-4EB9-AB04-5EF458586F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4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4"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5"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9D9306-463D-435C-A48B-C09596C444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47"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8"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9"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DF1AA0-0A51-41A3-91BA-A16EAA9E17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3"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6DAC72-BF45-4285-B725-54B937FBD7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5"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6"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AA6030-7B00-4F82-8400-19CFDD4FD3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8"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9"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0"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1"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2978EB-11A8-4CC8-B22D-8776716EF1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63"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4"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5"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6"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7"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8"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6B2D1A-2C59-4E23-A7ED-25A6DF0EBB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CA6E8B5-FBB0-483F-8FE9-79E72EB065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F3657-0760-409E-B3B3-06214BF02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5"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D31915-C8F3-4CBE-8301-FCAD66D104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7"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BC1C11-A336-44D0-A629-9663912E5F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0"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559BA7-70CC-4132-8344-43A55BC658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2F375E-9124-454F-A581-1138BE2804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308365-98F6-4B20-8D5F-25D42F3B4A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8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5"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6"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E8BFAB-B44D-4D0A-B639-FDAA46D877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88"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9"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0"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0F850F-8B5A-40B3-92D1-05C7C1BE49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92"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3"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4"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757D18-FE40-4C55-93DF-10B0C1659E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96"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7"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225487-0902-475C-8C93-A089348034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99"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1"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2"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AC53A7C-C492-487D-9A2F-FEB65C10CD4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1E54D-CAE1-4893-A6CE-1BA2CFB2D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04"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5"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6"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7"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8"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9"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F6E6A11-93C2-4837-AD7C-5468A96BC6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15BF84B-24E1-4ED6-A8D4-7074C10EA2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16"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F9F004-A587-431E-A63B-DC1BFB8844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18"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C0E010-819A-4C75-9A5D-CD8F682DCC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2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04ACFE-E99E-4565-A0BC-87E2BA5CB1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8BBA64-DEFE-4313-8A44-5DEBD1DABD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A1CA91-FB67-4A5F-B955-2C8BECB29E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2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B8A525-D49F-42A0-900B-721EDFD9D7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2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3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31"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A4D8AC-5533-447C-A92A-8031A479EC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3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3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35"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51B11A-863A-419A-9516-D6E92B74BB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A1D91-A86A-4774-A5D1-A553257B1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37"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38"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D86084-787A-4924-8E03-87353074D7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4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4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4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43"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9E20C7-4712-43B8-81FE-66CDA669C4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45"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46"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47"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48"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49"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50"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20DB5B6-C02D-451F-BC3E-E6552F69D6F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CC5AFB7-46D0-41BD-AE13-82F2705442F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57"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D25E84-F76F-4440-B7FC-987CC0F0B2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5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954CE8-7EFA-4632-8357-5D7DE5ACE8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6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6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63332B-288C-4129-821A-5E59226830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84BEC8-56C4-422B-8355-5144E4A69A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BB6063-5EE8-4FD2-AA80-99CA13569A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6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6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6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6D07D2-1409-4665-8FC1-F1EC43F469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06F67-B348-4405-9E7C-DAB8C3D90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7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72"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4CE0DF-9C80-4E15-92D0-5CCF3DAE6B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7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76"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88DA12-7141-4270-BDC1-00A57989AC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8"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79"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5ED4C1-0820-4B81-ABF2-3723DE0042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8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8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8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84"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3A7FFF6-5399-4C97-8BC2-C8BDA118F70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86"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87"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88"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89"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90"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91"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79F821C-FCC9-4091-B614-9BA67D301ED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454E6-9301-4E1F-A1DB-1C31A363A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454F8-8701-4A5D-A1E2-C5FBDDCCC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80BA7-387A-4F8B-BBB0-17CF7B599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F8B6F-56C1-4171-9E7F-92DD017B2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BBC29-3FE9-4EC6-B75B-02A8F6D12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06AD1-64DB-43C0-8141-60C46264D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3B60A-2E4C-4A1B-86DA-152C655C1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2A8BB-155B-4F03-A234-D3DC577A8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64CF4-D7AE-4525-B905-1FFFAEA41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CCAC4-7110-40C6-9E63-D9C0204A9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1A3F7-FCB2-4667-8F3B-E1DDDB2C0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748480-733E-4B43-AD65-844FBAF8F0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8"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B45CC1-DB8C-4B87-8548-F8C1F07E14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0"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12248E-222F-45A8-8DDE-E53F0A428F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2"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3"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710C71-61FB-4C9D-9F51-7CBB879332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BE78F7-FE88-4A1E-AF17-B688F8F86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CDCAF-8A9A-460A-B4A4-C16C10D75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F4A256-CBDA-4CD0-A384-671D1A5328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7"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8"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9"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076B6B-A5FC-4268-B143-CCAE8D774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3"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F0AC66-10F0-41F1-ADC5-DC9308169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6"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7"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55E08-9E30-4157-8FC6-B23E0FAA9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9"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0"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42ED33-1437-4A48-9E45-89E444B436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2"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3"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4"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5"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B8EF1F-563F-4631-BB25-A2F0952479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7"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8"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9"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0"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1"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2"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83C166-2EE8-4676-87C1-71CD2121E8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0BD629-F77F-43A5-88D1-1313013501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9"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304E71-A46C-4173-BE97-03220A933C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1"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D30F48-4337-4326-BEDD-55ACF1ED9E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9268C-07DE-4B46-8D21-5A5A7A415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3"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4"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EA2B58-3200-4ABC-89D4-06CA7761D2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26C9D5-4E9D-4DD9-B7D6-871EC045F4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C2128B-F6C8-4D2B-9966-255B234604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8"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9"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0"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FA962-8748-4DFD-BE26-60D23C98E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2"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3"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4"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0A8F35-0263-4180-AAC4-BDD94846B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7"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8"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E2457E-8E0C-4CD8-AA76-C8BCC9FE1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0"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1"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43D16F-2123-4137-8C47-0EF2932CD6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5"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6"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57A2D5-4A39-4B70-ADEC-4717848E5A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8"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9"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0"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1"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2"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3"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AE899F-5A84-4998-9E55-8C5D957408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A058E2-1882-4AD4-8729-A552A317CC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57D34-FB5D-4B9D-BD53-117B05C80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0"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4C5512-0928-4078-9513-D1EB480AC4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2"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AF8161-6665-4EFF-9A6A-EC2384A671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4"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5"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B25C64-D2BB-4033-83D5-0CA22904AC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8381B6-0B3C-4676-8900-A86CAAEDF8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CF6625-4B06-4821-B931-9BE3C00D05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9"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0"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1"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24A69C-5CA7-4131-861C-101EAEDED8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83"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5"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3076E-440B-4AC9-A58B-CBC4A897DE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87"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8"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9"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604789-8E10-4E48-8E05-968708CE08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1"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2"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7724AC-B3E8-444B-AF85-148A0274D9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6"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7"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361C2B-3441-483F-9D33-B9EB5FDA83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4D87E-FAE1-48B3-B2E0-263666077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9"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0"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1"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2"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3"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4"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9C2BB6-09C5-4996-9DD1-F400A198F3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1F9EEA-BA27-43B2-83B0-6227C630D1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1"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261D28-FF07-4526-8DCA-51A28E5E4A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3"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ABC779-8D68-45F9-8E81-170A5E820B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5"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C7D385-30C4-4F6C-AC84-F91BD32D75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32E457-9093-48E7-9DC8-65423ABCBF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21BD91-07C6-429C-9B2D-320FFD3893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2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AF28C-CAC5-47B5-A090-1DBBBE98D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24"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6"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E88190-6970-4E9B-92E3-9C1446D72B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28"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9"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0"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6FCAF7-AD05-4CC0-8C65-460938714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480E7-2E69-4E65-BC9A-607DD34E6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2"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3"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70B316-7158-48DD-9AE2-5828840252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6"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8"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1602B2-139A-4047-8C67-06023EABBF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40"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1"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2"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3"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4"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5"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80A12D-6C43-46B8-A6C3-6C948537B4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482839-6452-49E7-9B66-6A23153361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2"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1F8D91-2694-4692-ACCC-DBB95F630A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4"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09A9E3-6011-4508-9687-819765B6DB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6"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F8E840-EF4D-4E92-89ED-F9766F8E99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80145E-1DBE-4900-96C7-77EDE28070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EBBCD3-0F4C-47E8-9CF0-B00CAC6EFB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6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DFA9E7-DD54-467E-81FD-FFCC32ACC6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DA9FA-6CED-4798-87BE-E91276CFA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65"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6"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7"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01F8FC-05FD-40AB-B492-3F260A9455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69"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1"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9D8A4C-30BF-49FD-A28A-D3EE309310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3"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4"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F2F766-2166-422F-8B5C-3A33C0C82C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7"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9"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F67325-A1A1-41A9-A0C6-28BA434750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81"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2"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3"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4"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5"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6"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65920E-DC56-4693-915A-A81127BE61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8E7C1B-E8E1-49EA-8059-8BC73D5512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3"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F8AB67-D226-4C7E-BEF6-883EC2E311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A6DD19-ACCB-4EC2-9E8C-A0F96E0A21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7"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98"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0D308E-BFE2-49AE-8BE0-0DF5028754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18B1C2-A9CD-41B3-979F-ACFD9C4951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D55FB-9161-4C34-A279-BA31E4325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AA1758-83D2-49BF-8CF8-B2F87198AC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2"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3"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4"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5DE013-D048-44BB-9730-9589F612E3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6"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7"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8"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15D0F9-7D73-49CD-BF97-65D372A4AC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1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2"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01CC0D-5F12-4717-AE1C-4E6B8DC22F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14"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5"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2003E4-8881-4A9D-B1DD-0FBB84AF53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17"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8"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9"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0"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F4811E-50CB-4C8B-B5AD-4AB3E65526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22"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3"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4"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5"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6"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7"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2B4244-D0D6-4D1A-8184-1E989DF91F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6CBD47-48A9-4DA0-A486-039E8E590C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34"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1DEFFB-EA7D-418C-90D0-43C930893F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36"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3F66B6-1367-423B-ACFB-C86A3539BE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BFC4D-3729-4377-95AC-217415071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370"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53CE-6B83-4582-91DB-78CBA08BDB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11"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DFB1-01F4-4C9F-9EEF-7099A63F48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52"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EB61-3B6D-4D17-AA6C-A1957AEA021B}"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25AF-916C-4E7D-8CA6-8D78553E51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83"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6FA9-4471-4152-8FD8-E05862C707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24"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FA01-21C1-41FC-BCE8-78FE44ECFA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65"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FC35-5C42-4F5F-A71A-E1C3BA3A54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206"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A560-85F1-4991-B425-A8D5A8F1A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247"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F09E-3FAA-44C7-B235-0F943CBA07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288"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A006-DC58-41E3-B697-6DF074263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329"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8F94-D74E-4103-89FD-9C0BA00AF7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04560" y="4038120"/>
            <a:ext cx="792468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What is Web 2.0?</a:t>
            </a:r>
            <a:endParaRPr b="0" lang="en-US" sz="4400" spc="-1" strike="noStrike">
              <a:solidFill>
                <a:srgbClr val="080808"/>
              </a:solidFill>
              <a:latin typeface="Tahoma"/>
            </a:endParaRPr>
          </a:p>
        </p:txBody>
      </p:sp>
      <p:sp>
        <p:nvSpPr>
          <p:cNvPr id="500" name="PlaceHolder 2"/>
          <p:cNvSpPr>
            <a:spLocks noGrp="1"/>
          </p:cNvSpPr>
          <p:nvPr>
            <p:ph type="subTitle"/>
          </p:nvPr>
        </p:nvSpPr>
        <p:spPr>
          <a:xfrm>
            <a:off x="304920" y="4971600"/>
            <a:ext cx="8610480" cy="89532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mmunication, Collaboration &amp; Community</a:t>
            </a:r>
            <a:endParaRPr b="0" lang="en-US" sz="3200" spc="-1" strike="noStrike">
              <a:solidFill>
                <a:srgbClr val="080808"/>
              </a:solidFill>
              <a:latin typeface="Tahoma"/>
            </a:endParaRPr>
          </a:p>
        </p:txBody>
      </p:sp>
      <p:pic>
        <p:nvPicPr>
          <p:cNvPr id="501" name="Picture 4" descr=""/>
          <p:cNvPicPr/>
          <p:nvPr/>
        </p:nvPicPr>
        <p:blipFill>
          <a:blip r:embed="rId1"/>
          <a:stretch/>
        </p:blipFill>
        <p:spPr>
          <a:xfrm>
            <a:off x="2895480" y="76320"/>
            <a:ext cx="5391360" cy="388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iGoogle </a:t>
            </a:r>
            <a:endParaRPr b="0" lang="en-US" sz="4400" spc="-1" strike="noStrike">
              <a:solidFill>
                <a:srgbClr val="080808"/>
              </a:solidFill>
              <a:latin typeface="Tahoma"/>
            </a:endParaRPr>
          </a:p>
        </p:txBody>
      </p:sp>
      <p:sp>
        <p:nvSpPr>
          <p:cNvPr id="520" name="PlaceHolder 2"/>
          <p:cNvSpPr>
            <a:spLocks noGrp="1"/>
          </p:cNvSpPr>
          <p:nvPr>
            <p:ph/>
          </p:nvPr>
        </p:nvSpPr>
        <p:spPr>
          <a:xfrm>
            <a:off x="1523880" y="1294920"/>
            <a:ext cx="7391520" cy="5257800"/>
          </a:xfrm>
          <a:prstGeom prst="rect">
            <a:avLst/>
          </a:prstGeom>
          <a:noFill/>
          <a:ln w="0">
            <a:noFill/>
          </a:ln>
        </p:spPr>
        <p:txBody>
          <a:bodyPr anchor="t">
            <a:normAutofit fontScale="99000"/>
          </a:bodyPr>
          <a:p>
            <a:pPr marL="339480" indent="-3394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great way to consolidate Web resources, including a plethora of </a:t>
            </a:r>
            <a:r>
              <a:rPr b="1" lang="en-US" sz="3200" spc="-1" strike="noStrike">
                <a:solidFill>
                  <a:srgbClr val="080808"/>
                </a:solidFill>
                <a:latin typeface="Tahoma"/>
              </a:rPr>
              <a:t>educational resources</a:t>
            </a:r>
            <a:r>
              <a:rPr b="0" lang="en-US" sz="3200" spc="-1" strike="noStrike">
                <a:solidFill>
                  <a:srgbClr val="080808"/>
                </a:solidFill>
                <a:latin typeface="Tahoma"/>
              </a:rPr>
              <a:t> grouped by subject area</a:t>
            </a:r>
            <a:endParaRPr b="0" lang="en-US" sz="3200" spc="-1" strike="noStrike">
              <a:solidFill>
                <a:srgbClr val="080808"/>
              </a:solidFill>
              <a:latin typeface="Tahoma"/>
            </a:endParaRPr>
          </a:p>
          <a:p>
            <a:pPr marL="339480" indent="-3394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adgets allow media to come to you, including RSS feeds  </a:t>
            </a:r>
            <a:endParaRPr b="0" lang="en-US" sz="3200" spc="-1" strike="noStrike">
              <a:solidFill>
                <a:srgbClr val="080808"/>
              </a:solidFill>
              <a:latin typeface="Tahoma"/>
            </a:endParaRPr>
          </a:p>
          <a:p>
            <a:pPr marL="339480" indent="-3394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lus fun things like weather, calendar, Sudoku… Bookmarks (Web accessible)</a:t>
            </a:r>
            <a:endParaRPr b="0" lang="en-US" sz="3200" spc="-1" strike="noStrike">
              <a:solidFill>
                <a:srgbClr val="080808"/>
              </a:solidFill>
              <a:latin typeface="Tahoma"/>
            </a:endParaRPr>
          </a:p>
          <a:p>
            <a:pPr marL="339480" indent="-3394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oogle, it’s not just for searching!</a:t>
            </a:r>
            <a:endParaRPr b="0" lang="en-US" sz="3200" spc="-1" strike="noStrike">
              <a:solidFill>
                <a:srgbClr val="080808"/>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ecurity</a:t>
            </a:r>
            <a:endParaRPr b="0" lang="en-US" sz="4400" spc="-1" strike="noStrike">
              <a:solidFill>
                <a:srgbClr val="080808"/>
              </a:solidFill>
              <a:latin typeface="Tahoma"/>
            </a:endParaRPr>
          </a:p>
        </p:txBody>
      </p:sp>
      <p:sp>
        <p:nvSpPr>
          <p:cNvPr id="522"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ll technologies must be private and secure for education</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nly we can view and edit</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ccounts are necessary</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ikispaces: Private accounts free for educators (others pay $50 per year)</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odcasts and Blogs can be secured</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arent consent required</a:t>
            </a:r>
            <a:endParaRPr b="0" lang="en-US" sz="3200" spc="-1" strike="noStrike">
              <a:solidFill>
                <a:srgbClr val="080808"/>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Web 2.0 = Read/Write Web </a:t>
            </a:r>
            <a:endParaRPr b="0" lang="en-US" sz="4400" spc="-1" strike="noStrike">
              <a:solidFill>
                <a:srgbClr val="080808"/>
              </a:solidFill>
              <a:latin typeface="Tahoma"/>
            </a:endParaRPr>
          </a:p>
        </p:txBody>
      </p:sp>
      <p:sp>
        <p:nvSpPr>
          <p:cNvPr id="503"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logs </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ikis</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odcasts</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SS</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d More…</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t’s Free!</a:t>
            </a:r>
            <a:endParaRPr b="0" lang="en-US" sz="3200" spc="-1" strike="noStrike">
              <a:solidFill>
                <a:srgbClr val="080808"/>
              </a:solidFill>
              <a:latin typeface="Tahoma"/>
            </a:endParaRPr>
          </a:p>
        </p:txBody>
      </p:sp>
      <p:pic>
        <p:nvPicPr>
          <p:cNvPr id="504" name="Picture 4" descr=""/>
          <p:cNvPicPr/>
          <p:nvPr/>
        </p:nvPicPr>
        <p:blipFill>
          <a:blip r:embed="rId1"/>
          <a:stretch/>
        </p:blipFill>
        <p:spPr>
          <a:xfrm>
            <a:off x="4257720" y="1968480"/>
            <a:ext cx="4581360" cy="4432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imeline</a:t>
            </a:r>
            <a:endParaRPr b="0" lang="en-US" sz="4400" spc="-1" strike="noStrike">
              <a:solidFill>
                <a:srgbClr val="080808"/>
              </a:solidFill>
              <a:latin typeface="Tahoma"/>
            </a:endParaRPr>
          </a:p>
        </p:txBody>
      </p:sp>
      <p:sp>
        <p:nvSpPr>
          <p:cNvPr id="506"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eb 2.0 first coined 2004</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logs – pre-Web, 1983  Term Weblog 1997</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iki – Ward Cunningham 1995</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SS – 1995</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ocial Bookmarking – 1996, Delicious 2004</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odcasting – 2000</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Google – 2005, renamed April 2007</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Blogs</a:t>
            </a:r>
            <a:endParaRPr b="0" lang="en-US" sz="4400" spc="-1" strike="noStrike">
              <a:solidFill>
                <a:srgbClr val="080808"/>
              </a:solidFill>
              <a:latin typeface="Tahoma"/>
            </a:endParaRPr>
          </a:p>
        </p:txBody>
      </p:sp>
      <p:sp>
        <p:nvSpPr>
          <p:cNvPr id="508"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343080">
              <a:lnSpc>
                <a:spcPct val="90000"/>
              </a:lnSpc>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eb logs or chronological online personal journals with reflections, comments and often links to other Web sites produced by the writer</a:t>
            </a:r>
            <a:br>
              <a:rPr sz="3200"/>
            </a:b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343080">
              <a:lnSpc>
                <a:spcPct val="90000"/>
              </a:lnSpc>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thers may subscribe to a person's blog, which allows them to read it and write comments in response</a:t>
            </a:r>
            <a:br>
              <a:rPr sz="3200"/>
            </a:b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343080">
              <a:lnSpc>
                <a:spcPct val="90000"/>
              </a:lnSpc>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mages, video and audio can be embedded as well</a:t>
            </a:r>
            <a:endParaRPr b="0" lang="en-US" sz="3200" spc="-1" strike="noStrike">
              <a:solidFill>
                <a:srgbClr val="08080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Wikis</a:t>
            </a:r>
            <a:endParaRPr b="0" lang="en-US" sz="4400" spc="-1" strike="noStrike">
              <a:solidFill>
                <a:srgbClr val="080808"/>
              </a:solidFill>
              <a:latin typeface="Tahoma"/>
            </a:endParaRPr>
          </a:p>
        </p:txBody>
      </p:sp>
      <p:sp>
        <p:nvSpPr>
          <p:cNvPr id="510" name="PlaceHolder 2"/>
          <p:cNvSpPr>
            <a:spLocks noGrp="1"/>
          </p:cNvSpPr>
          <p:nvPr>
            <p:ph/>
          </p:nvPr>
        </p:nvSpPr>
        <p:spPr>
          <a:xfrm>
            <a:off x="1523880" y="1294920"/>
            <a:ext cx="7391520" cy="5257800"/>
          </a:xfrm>
          <a:prstGeom prst="rect">
            <a:avLst/>
          </a:prstGeom>
          <a:noFill/>
          <a:ln w="0">
            <a:noFill/>
          </a:ln>
        </p:spPr>
        <p:txBody>
          <a:bodyPr anchor="t">
            <a:normAutofit fontScale="94000"/>
          </a:bodyPr>
          <a:p>
            <a:pPr marL="322200" indent="-3222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type of Web site that allows visitors to easily add, remove, or otherwise edit and change some available content</a:t>
            </a:r>
            <a:endParaRPr b="0" lang="en-US" sz="3200" spc="-1" strike="noStrike">
              <a:solidFill>
                <a:srgbClr val="080808"/>
              </a:solidFill>
              <a:latin typeface="Tahoma"/>
            </a:endParaRPr>
          </a:p>
          <a:p>
            <a:pPr marL="322200" indent="-3222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llaborative Read/Write tool</a:t>
            </a:r>
            <a:endParaRPr b="0" lang="en-US" sz="3200" spc="-1" strike="noStrike">
              <a:solidFill>
                <a:srgbClr val="080808"/>
              </a:solidFill>
              <a:latin typeface="Tahoma"/>
            </a:endParaRPr>
          </a:p>
          <a:p>
            <a:pPr marL="322200" indent="-3222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80808"/>
                </a:solidFill>
                <a:latin typeface="Tahoma"/>
              </a:rPr>
              <a:t>Wikipedia</a:t>
            </a:r>
            <a:r>
              <a:rPr b="0" lang="en-US" sz="3200" spc="-1" strike="noStrike">
                <a:solidFill>
                  <a:srgbClr val="080808"/>
                </a:solidFill>
                <a:latin typeface="Tahoma"/>
              </a:rPr>
              <a:t> – largest encyclopedia</a:t>
            </a:r>
            <a:endParaRPr b="0" lang="en-US" sz="3200" spc="-1" strike="noStrike">
              <a:solidFill>
                <a:srgbClr val="080808"/>
              </a:solidFill>
              <a:latin typeface="Tahoma"/>
            </a:endParaRPr>
          </a:p>
          <a:p>
            <a:pPr marL="322200" indent="-3222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ll types of media can be embedded</a:t>
            </a:r>
            <a:endParaRPr b="0" lang="en-US" sz="3200" spc="-1" strike="noStrike">
              <a:solidFill>
                <a:srgbClr val="080808"/>
              </a:solidFill>
              <a:latin typeface="Tahoma"/>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	</a:t>
            </a:r>
            <a:r>
              <a:rPr b="0" lang="en-US" sz="2800" spc="-1" strike="noStrike">
                <a:solidFill>
                  <a:srgbClr val="080808"/>
                </a:solidFill>
                <a:latin typeface="Tahoma"/>
              </a:rPr>
              <a:t>Images, Audio, Video, Flash</a:t>
            </a:r>
            <a:endParaRPr b="0" lang="en-US" sz="2800" spc="-1" strike="noStrike">
              <a:solidFill>
                <a:srgbClr val="080808"/>
              </a:solidFill>
              <a:latin typeface="Tahoma"/>
            </a:endParaRPr>
          </a:p>
          <a:p>
            <a:pPr marL="322200" indent="-3222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iki means Quick or Fast in Hawaiian</a:t>
            </a:r>
            <a:endParaRPr b="0" lang="en-US" sz="3200" spc="-1" strike="noStrike">
              <a:solidFill>
                <a:srgbClr val="08080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odcasts</a:t>
            </a:r>
            <a:endParaRPr b="0" lang="en-US" sz="4400" spc="-1" strike="noStrike">
              <a:solidFill>
                <a:srgbClr val="080808"/>
              </a:solidFill>
              <a:latin typeface="Tahoma"/>
            </a:endParaRPr>
          </a:p>
        </p:txBody>
      </p:sp>
      <p:sp>
        <p:nvSpPr>
          <p:cNvPr id="512"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syndicated audio (or video) program produced either by traditional media, such as radio and television, or by individuals, including educators, hobbyists, students, or other enthusiasts passionate about a topic</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riginally from iPod, but POD now means Playable on Demand</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 iPod is optional, not required</a:t>
            </a:r>
            <a:endParaRPr b="0" lang="en-US" sz="3200" spc="-1" strike="noStrike">
              <a:solidFill>
                <a:srgbClr val="080808"/>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odcasts</a:t>
            </a:r>
            <a:endParaRPr b="0" lang="en-US" sz="4400" spc="-1" strike="noStrike">
              <a:solidFill>
                <a:srgbClr val="080808"/>
              </a:solidFill>
              <a:latin typeface="Tahoma"/>
            </a:endParaRPr>
          </a:p>
        </p:txBody>
      </p:sp>
      <p:sp>
        <p:nvSpPr>
          <p:cNvPr id="514"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xisting educational podcasts available for free use in all subject areas</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free program, Audacity, allows you  to create mp3s.</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odcasts (video) are possible, but more difficult to implement</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You can do it too!</a:t>
            </a:r>
            <a:endParaRPr b="0" lang="en-US" sz="3200" spc="-1" strike="noStrike">
              <a:solidFill>
                <a:srgbClr val="080808"/>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SS </a:t>
            </a:r>
            <a:endParaRPr b="0" lang="en-US" sz="4400" spc="-1" strike="noStrike">
              <a:solidFill>
                <a:srgbClr val="080808"/>
              </a:solidFill>
              <a:latin typeface="Tahoma"/>
            </a:endParaRPr>
          </a:p>
        </p:txBody>
      </p:sp>
      <p:sp>
        <p:nvSpPr>
          <p:cNvPr id="516" name="PlaceHolder 2"/>
          <p:cNvSpPr>
            <a:spLocks noGrp="1"/>
          </p:cNvSpPr>
          <p:nvPr>
            <p:ph/>
          </p:nvPr>
        </p:nvSpPr>
        <p:spPr>
          <a:xfrm>
            <a:off x="1523880" y="1294920"/>
            <a:ext cx="7391520" cy="5257800"/>
          </a:xfrm>
          <a:prstGeom prst="rect">
            <a:avLst/>
          </a:prstGeom>
          <a:noFill/>
          <a:ln w="0">
            <a:noFill/>
          </a:ln>
        </p:spPr>
        <p:txBody>
          <a:bodyPr anchor="t">
            <a:normAutofit fontScale="95000"/>
          </a:bodyPr>
          <a:p>
            <a:pPr marL="325800" indent="-3258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SS: (Really Simple Syndication):</a:t>
            </a:r>
            <a:br>
              <a:rPr sz="3200"/>
            </a:br>
            <a:r>
              <a:rPr b="0" lang="en-US" sz="3200" spc="-1" strike="noStrike">
                <a:solidFill>
                  <a:srgbClr val="080808"/>
                </a:solidFill>
                <a:latin typeface="Tahoma"/>
              </a:rPr>
              <a:t>a format for aggregating Web content in one place</a:t>
            </a:r>
            <a:endParaRPr b="0" lang="en-US" sz="3200" spc="-1" strike="noStrike">
              <a:solidFill>
                <a:srgbClr val="080808"/>
              </a:solidFill>
              <a:latin typeface="Tahoma"/>
            </a:endParaRPr>
          </a:p>
          <a:p>
            <a:pPr marL="325800" indent="-3258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ring the content to you. News feeds: (NPR, Current Events, sports articles) </a:t>
            </a:r>
            <a:endParaRPr b="0" lang="en-US" sz="3200" spc="-1" strike="noStrike">
              <a:solidFill>
                <a:srgbClr val="080808"/>
              </a:solidFill>
              <a:latin typeface="Tahoma"/>
            </a:endParaRPr>
          </a:p>
          <a:p>
            <a:pPr marL="325800" indent="-3258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llect most any Web content as it is updated including podcasts and Blogs</a:t>
            </a:r>
            <a:endParaRPr b="0" lang="en-US" sz="3200" spc="-1" strike="noStrike">
              <a:solidFill>
                <a:srgbClr val="080808"/>
              </a:solidFill>
              <a:latin typeface="Tahoma"/>
            </a:endParaRPr>
          </a:p>
          <a:p>
            <a:pPr marL="325800" indent="-3258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ring the Web to You, Saving You Time!</a:t>
            </a:r>
            <a:endParaRPr b="0" lang="en-US" sz="3200" spc="-1" strike="noStrike">
              <a:solidFill>
                <a:srgbClr val="080808"/>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ocial Bookmarking</a:t>
            </a:r>
            <a:endParaRPr b="0" lang="en-US" sz="4400" spc="-1" strike="noStrike">
              <a:solidFill>
                <a:srgbClr val="080808"/>
              </a:solidFill>
              <a:latin typeface="Tahoma"/>
            </a:endParaRPr>
          </a:p>
        </p:txBody>
      </p:sp>
      <p:sp>
        <p:nvSpPr>
          <p:cNvPr id="518"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el.icio.us, Furl, Digg</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llow you to share bookmarks</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t>
            </a:r>
            <a:r>
              <a:rPr b="0" lang="en-US" sz="3200" spc="-1" strike="noStrike">
                <a:solidFill>
                  <a:srgbClr val="080808"/>
                </a:solidFill>
                <a:latin typeface="Tahoma"/>
              </a:rPr>
              <a:t>Tagging” groups together similar topics</a:t>
            </a:r>
            <a:endParaRPr b="0" lang="en-US" sz="3200" spc="-1" strike="noStrike">
              <a:solidFill>
                <a:srgbClr val="080808"/>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1T16:56:04Z</dcterms:created>
  <dc:creator>Paul</dc:creator>
  <dc:description/>
  <cp:keywords/>
  <dc:language>en-US</dc:language>
  <cp:lastModifiedBy>MSJ</cp:lastModifiedBy>
  <dcterms:modified xsi:type="dcterms:W3CDTF">2009-02-09T17:50:59Z</dcterms:modified>
  <cp:revision>73</cp:revision>
  <dc:subject/>
  <dc:title>Web 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41033</vt:lpwstr>
  </property>
</Properties>
</file>